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3838-7CCA-49C4-BF59-A23882176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697D-A2CA-4A6E-B32F-F4FFD4033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BA8E-9BD9-44EF-AAF3-732D2F080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E1BA-B735-4414-B5A9-755EC7B75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65C0-017B-40CD-8620-4696FAAF0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B4E7-9FFE-4C75-8A2F-77766C193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0A4A-C65C-4C64-95DB-C5CEFF8AD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12DA-BCD3-4B2B-90E8-B464E36A0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9D89-80F9-4075-B800-5C7470964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3874-B9FD-4102-AC67-E1A3A802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1562-D51F-48EE-8DF2-078E6E962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E55B-8FFE-4932-BFEC-0F7D179D6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694FB-22DD-4ED0-9BD9-272CFD2BF4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 2.6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mul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905120"/>
            <a:ext cx="67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ve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Transforming Literal Equ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762120"/>
            <a:ext cx="74678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cabula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eral equation – an equation involving two or more variab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2590920"/>
            <a:ext cx="72392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1    Transforming Geometric Formu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4903920"/>
            <a:ext cx="64767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Understand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3520" y="380880"/>
            <a:ext cx="929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2    Transforming Equ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267080"/>
            <a:ext cx="579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Understand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609588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mewor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2280" y="5478480"/>
            <a:ext cx="65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uestions from objective 1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3T16:16:10Z</dcterms:created>
  <dc:creator>Susannah Graham</dc:creator>
  <dc:description/>
  <dc:language>en-US</dc:language>
  <cp:lastModifiedBy>Susannah Graham</cp:lastModifiedBy>
  <dcterms:modified xsi:type="dcterms:W3CDTF">2009-07-30T15:24:37Z</dcterms:modified>
  <cp:revision>2</cp:revision>
  <dc:subject/>
  <dc:title>Lesson 2.6 Formulas</dc:title>
</cp:coreProperties>
</file>